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4B8AE-0D81-449E-9C3E-953C364E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DA099-C757-438A-801B-42912FA6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7EC21-6478-49B3-B5F7-B151EE66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A0DC9-39AA-421F-9A07-27C08E2D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8EC1-93FB-45E6-BA83-DD46A695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CA89-9322-444E-B4CC-DD64511A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6357-11C7-4241-9D7A-C00CC4CE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ECDC-4A18-4D14-860A-C3B7DCB5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24C0-27B0-4D36-9E4C-8E989D99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A020-D164-440D-B093-14D2E33C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5844-F731-42F0-A1E5-2643792C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35EB5-ED96-4F82-8A67-91E50482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8D0F-498B-4B8C-9892-B8F98FD9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6161-8F65-4DAD-95B4-86D4F3A5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CD87-3D5C-4F8F-A8A2-CC22C3BF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FB35-3BA7-46F2-AD5C-1D31ACDE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EE4F-F640-4018-A013-6F5F2007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3C396-BC48-4C45-B978-FACBBB95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38AB6-2F0D-4898-A1AA-F030275D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6E8E0-31A7-4D3A-B0E9-8F97E374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45CBA-B7D2-4BB8-A012-EE00C289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BC455-8325-4985-B38C-057D4B18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F3D16-F7B6-4C79-A837-F8E7E2E3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C41CF-A28D-47A0-9756-8E05EEF1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04162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04162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04162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0416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04162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0416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DECF-A374-4C79-9512-0023681D3B55}" type="slidenum">
              <a:rPr b="0" lang="en-US" sz="1200" spc="-1" strike="noStrike">
                <a:solidFill>
                  <a:srgbClr val="20416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2041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2041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4162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33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33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33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0416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04162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204162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0416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04162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0416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04162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0416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2294-ACC3-476E-8B68-5124C684BA92}" type="slidenum">
              <a:rPr b="0" lang="en-US" sz="1200" spc="-1" strike="noStrike">
                <a:solidFill>
                  <a:srgbClr val="20416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2041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4162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33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33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33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2041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41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Me llamo _______ Clase 6NH  (601) </a:t>
            </a:r>
            <a:br>
              <a:rPr sz="3000"/>
            </a:b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La fecha es el 16 de noviembre del 2012</a:t>
            </a:r>
            <a:endParaRPr b="0" lang="en-US" sz="30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899136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ropósito # 16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iénes dan los exámenes en la escuela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studias tú italiano en la escuela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la clase de música, ¿tocas un instrumento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omas tú muchos apuntes en la clase de español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ntestas muchas preguntas en la clase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Bailas tú mucho en las fiestas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0000"/>
                </a:solidFill>
                <a:latin typeface="Arial"/>
              </a:rPr>
              <a:t>Repaso de las palabras interrogativ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view of question words</a:t>
            </a: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01064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cribe en españo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ho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hich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t what…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0000"/>
                </a:solidFill>
                <a:latin typeface="Arial"/>
              </a:rPr>
              <a:t>Tarea # 16</a:t>
            </a: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WORKBOOK: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Completa p. R9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23:31:24Z</dcterms:created>
  <dc:creator>Helen Zumaeta</dc:creator>
  <dc:description/>
  <dc:language>en-US</dc:language>
  <cp:lastModifiedBy>Helen Zumaeta</cp:lastModifiedBy>
  <dcterms:modified xsi:type="dcterms:W3CDTF">2012-11-19T17:36:25Z</dcterms:modified>
  <cp:revision>11</cp:revision>
  <dc:subject/>
  <dc:title>Me llamo _______ Clase 6NH La fecha es el 29 de febrero del 2012</dc:title>
</cp:coreProperties>
</file>